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8.wmf" ContentType="image/x-wmf"/>
  <Override PartName="/ppt/media/image7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5.png" ContentType="image/png"/>
  <Override PartName="/ppt/media/image6.png" ContentType="image/png"/>
  <Override PartName="/ppt/media/image23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CE1B-EC7B-4924-B229-68B895EF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7D9D-A4E7-46A6-A4CB-15CFB0F3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6288-E623-4ADB-BF7A-57F2CE6D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216B-BF11-4DCC-8E26-6A04298D4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73BD-B255-45C5-9219-D890BC6B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A98E-7C57-4FBE-99DF-CD7231F6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26BF-A734-44B8-926A-EBBEDA321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8699-6B61-45F8-B05F-8AFF34B8D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3E22-707B-407D-A0C3-A9CF2A39A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24A0-2F0A-4816-9E44-A95A3E1E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D193-8C50-4846-86DC-C7340CEF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AC49-C231-46C9-8234-544EA397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1C5D-E8CD-49C2-A8FD-C1E56C55E3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image" Target="../media/image7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" Target="slide8.xml"/><Relationship Id="rId4" Type="http://schemas.openxmlformats.org/officeDocument/2006/relationships/image" Target="../media/image9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image" Target="../media/image11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12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package" Target="../embeddings/oleObject1.docx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5" descr=""/>
          <p:cNvPicPr/>
          <p:nvPr/>
        </p:nvPicPr>
        <p:blipFill>
          <a:blip r:embed="rId1"/>
          <a:stretch/>
        </p:blipFill>
        <p:spPr>
          <a:xfrm>
            <a:off x="1450800" y="2041560"/>
            <a:ext cx="6437520" cy="8049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7" descr=""/>
          <p:cNvPicPr/>
          <p:nvPr/>
        </p:nvPicPr>
        <p:blipFill>
          <a:blip r:embed="rId2"/>
          <a:stretch/>
        </p:blipFill>
        <p:spPr>
          <a:xfrm>
            <a:off x="-49320" y="396720"/>
            <a:ext cx="9242640" cy="1670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2020865"/>
          <p:cNvPicPr/>
          <p:nvPr/>
        </p:nvPicPr>
        <p:blipFill>
          <a:blip r:embed="rId3"/>
          <a:stretch/>
        </p:blipFill>
        <p:spPr>
          <a:xfrm>
            <a:off x="2714760" y="3429000"/>
            <a:ext cx="3633480" cy="20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3"/>
          <p:cNvGraphicFramePr/>
          <p:nvPr/>
        </p:nvGraphicFramePr>
        <p:xfrm>
          <a:off x="3143160" y="3214800"/>
          <a:ext cx="2214720" cy="2481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3160" y="3214800"/>
                    <a:ext cx="221472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Прямоугольник 3" descr=""/>
          <p:cNvPicPr/>
          <p:nvPr/>
        </p:nvPicPr>
        <p:blipFill>
          <a:blip r:embed="rId3"/>
          <a:stretch/>
        </p:blipFill>
        <p:spPr>
          <a:xfrm>
            <a:off x="2266920" y="549360"/>
            <a:ext cx="3616200" cy="19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кругленный прямоугольник 3"/>
          <p:cNvSpPr/>
          <p:nvPr/>
        </p:nvSpPr>
        <p:spPr>
          <a:xfrm>
            <a:off x="4214880" y="3286080"/>
            <a:ext cx="4248000" cy="928800"/>
          </a:xfrm>
          <a:prstGeom prst="roundRect">
            <a:avLst>
              <a:gd name="adj" fmla="val 50000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Calibri"/>
                <a:ea typeface="Arial"/>
              </a:rPr>
              <a:t>один ударный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 action="ppaction://hlinksldjump"/>
              </a:rPr>
              <a:t>гласный</a:t>
            </a:r>
            <a:r>
              <a:rPr b="0" lang="ru-RU" sz="3600" spc="-1" strike="noStrike">
                <a:solidFill>
                  <a:srgbClr val="800080"/>
                </a:solidFill>
                <a:latin typeface="Calibri"/>
                <a:ea typeface="Arial"/>
              </a:rPr>
              <a:t> зву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Скругленный прямоугольник 4"/>
          <p:cNvSpPr/>
          <p:nvPr/>
        </p:nvSpPr>
        <p:spPr>
          <a:xfrm>
            <a:off x="4071960" y="1928880"/>
            <a:ext cx="4321080" cy="100008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Calibri"/>
                <a:ea typeface="Arial"/>
              </a:rPr>
              <a:t>два  ударных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 action="ppaction://hlinksldjump"/>
              </a:rPr>
              <a:t>гласных</a:t>
            </a:r>
            <a:r>
              <a:rPr b="0" lang="ru-RU" sz="3600" spc="-1" strike="noStrike">
                <a:solidFill>
                  <a:srgbClr val="800080"/>
                </a:solidFill>
                <a:latin typeface="Calibri"/>
                <a:ea typeface="Arial"/>
              </a:rPr>
              <a:t> зв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Скругленный прямоугольник 5"/>
          <p:cNvSpPr/>
          <p:nvPr/>
        </p:nvSpPr>
        <p:spPr>
          <a:xfrm>
            <a:off x="4000680" y="4714920"/>
            <a:ext cx="4321080" cy="998640"/>
          </a:xfrm>
          <a:prstGeom prst="roundRect">
            <a:avLst>
              <a:gd name="adj" fmla="val 50000"/>
            </a:avLst>
          </a:prstGeom>
          <a:solidFill>
            <a:srgbClr val="c6d9f1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Calibri"/>
                <a:ea typeface="Arial"/>
              </a:rPr>
              <a:t>все </a:t>
            </a:r>
            <a:r>
              <a:rPr b="0" lang="ru-RU" sz="3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3" action="ppaction://hlinksldjump"/>
              </a:rPr>
              <a:t>гласные</a:t>
            </a:r>
            <a:r>
              <a:rPr b="0" lang="ru-RU" sz="3600" spc="-1" strike="noStrike">
                <a:solidFill>
                  <a:srgbClr val="800080"/>
                </a:solidFill>
                <a:latin typeface="Calibri"/>
                <a:ea typeface="Arial"/>
              </a:rPr>
              <a:t> звуки удар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9" descr="барабан"/>
          <p:cNvPicPr/>
          <p:nvPr/>
        </p:nvPicPr>
        <p:blipFill>
          <a:blip r:embed="rId4"/>
          <a:stretch/>
        </p:blipFill>
        <p:spPr>
          <a:xfrm>
            <a:off x="900000" y="2781360"/>
            <a:ext cx="2414880" cy="257004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6" descr=""/>
          <p:cNvPicPr/>
          <p:nvPr/>
        </p:nvPicPr>
        <p:blipFill>
          <a:blip r:embed="rId5"/>
          <a:stretch/>
        </p:blipFill>
        <p:spPr>
          <a:xfrm>
            <a:off x="652320" y="384120"/>
            <a:ext cx="7710480" cy="1047960"/>
          </a:xfrm>
          <a:prstGeom prst="rect">
            <a:avLst/>
          </a:prstGeom>
          <a:ln w="0">
            <a:noFill/>
          </a:ln>
        </p:spPr>
      </p:pic>
      <p:sp>
        <p:nvSpPr>
          <p:cNvPr id="49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858080" y="5929200"/>
            <a:ext cx="1071720" cy="685800"/>
          </a:xfrm>
          <a:custGeom>
            <a:avLst/>
            <a:gdLst>
              <a:gd name="textAreaLeft" fmla="*/ 44280 w 1071720"/>
              <a:gd name="textAreaRight" fmla="*/ 1027440 w 1071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749" h="21600">
                <a:moveTo>
                  <a:pt x="0" y="0"/>
                </a:moveTo>
                <a:lnTo>
                  <a:pt x="33749" y="0"/>
                </a:lnTo>
                <a:lnTo>
                  <a:pt x="33749" y="21600"/>
                </a:lnTo>
                <a:lnTo>
                  <a:pt x="0" y="21600"/>
                </a:lnTo>
                <a:close/>
              </a:path>
              <a:path fill="lightenLess" w="33749" h="21600">
                <a:moveTo>
                  <a:pt x="0" y="0"/>
                </a:moveTo>
                <a:lnTo>
                  <a:pt x="33749" y="0"/>
                </a:lnTo>
                <a:lnTo>
                  <a:pt x="32349" y="1400"/>
                </a:lnTo>
                <a:lnTo>
                  <a:pt x="1400" y="1400"/>
                </a:lnTo>
                <a:close/>
              </a:path>
              <a:path fill="darken" w="33749" h="21600">
                <a:moveTo>
                  <a:pt x="33749" y="0"/>
                </a:moveTo>
                <a:lnTo>
                  <a:pt x="33749" y="21600"/>
                </a:lnTo>
                <a:lnTo>
                  <a:pt x="32349" y="20200"/>
                </a:lnTo>
                <a:lnTo>
                  <a:pt x="32349" y="1400"/>
                </a:lnTo>
                <a:close/>
              </a:path>
              <a:path fill="darkenLess" w="33749" h="21600">
                <a:moveTo>
                  <a:pt x="33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49" y="20200"/>
                </a:lnTo>
                <a:close/>
              </a:path>
              <a:path fill="lighten" w="33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749" h="21600">
                <a:moveTo>
                  <a:pt x="9868" y="3794"/>
                </a:moveTo>
                <a:lnTo>
                  <a:pt x="23881" y="10800"/>
                </a:lnTo>
                <a:lnTo>
                  <a:pt x="986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Прямоугольник 7" descr=""/>
          <p:cNvPicPr/>
          <p:nvPr/>
        </p:nvPicPr>
        <p:blipFill>
          <a:blip r:embed="rId1"/>
          <a:stretch/>
        </p:blipFill>
        <p:spPr>
          <a:xfrm>
            <a:off x="639720" y="360360"/>
            <a:ext cx="8218440" cy="1938240"/>
          </a:xfrm>
          <a:prstGeom prst="rect">
            <a:avLst/>
          </a:prstGeom>
          <a:ln w="0">
            <a:noFill/>
          </a:ln>
        </p:spPr>
      </p:pic>
      <p:sp>
        <p:nvSpPr>
          <p:cNvPr id="51" name="Волна 8">
            <a:hlinkClick r:id="rId2" action="ppaction://hlinksldjump"/>
          </p:cNvPr>
          <p:cNvSpPr/>
          <p:nvPr/>
        </p:nvSpPr>
        <p:spPr>
          <a:xfrm>
            <a:off x="4000680" y="2357280"/>
            <a:ext cx="4643280" cy="1000440"/>
          </a:xfrm>
          <a:custGeom>
            <a:avLst/>
            <a:gdLst>
              <a:gd name="textAreaLeft" fmla="*/ 0 w 4643280"/>
              <a:gd name="textAreaRight" fmla="*/ 4643640 w 4643280"/>
              <a:gd name="textAreaTop" fmla="*/ 250200 h 1000440"/>
              <a:gd name="textAreaBottom" fmla="*/ 750600 h 10004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alibri"/>
                <a:ea typeface="Arial"/>
              </a:rPr>
              <a:t>а, о, и, е, 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Волна 9">
            <a:hlinkClick r:id="rId3" action="ppaction://hlinksldjump"/>
          </p:cNvPr>
          <p:cNvSpPr/>
          <p:nvPr/>
        </p:nvSpPr>
        <p:spPr>
          <a:xfrm>
            <a:off x="3643200" y="3643200"/>
            <a:ext cx="4786560" cy="914400"/>
          </a:xfrm>
          <a:custGeom>
            <a:avLst/>
            <a:gdLst>
              <a:gd name="textAreaLeft" fmla="*/ 0 w 4786560"/>
              <a:gd name="textAreaRight" fmla="*/ 4786920 w 478656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ff"/>
                </a:solidFill>
                <a:latin typeface="Calibri"/>
                <a:ea typeface="Arial"/>
              </a:rPr>
              <a:t>у, ю, ы, э, 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Волна 10"/>
          <p:cNvGrpSpPr/>
          <p:nvPr/>
        </p:nvGrpSpPr>
        <p:grpSpPr>
          <a:xfrm>
            <a:off x="3876840" y="4992840"/>
            <a:ext cx="4535280" cy="1285560"/>
            <a:chOff x="3876840" y="4992840"/>
            <a:chExt cx="4535280" cy="1285560"/>
          </a:xfrm>
        </p:grpSpPr>
        <p:pic>
          <p:nvPicPr>
            <p:cNvPr id="54" name="Волна 10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876840" y="4992840"/>
              <a:ext cx="4535280" cy="128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929040" y="5300640"/>
              <a:ext cx="4429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00"/>
                  </a:solidFill>
                  <a:latin typeface="Calibri"/>
                  <a:ea typeface="Arial"/>
                </a:rPr>
                <a:t>у, а, е, ы, э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6" name="Object 2"/>
          <p:cNvGraphicFramePr/>
          <p:nvPr/>
        </p:nvGraphicFramePr>
        <p:xfrm>
          <a:off x="500040" y="3071880"/>
          <a:ext cx="2363760" cy="24843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0040" y="3071880"/>
                    <a:ext cx="236376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Управляющая кнопка: далее 13">
            <a:hlinkClick r:id="" action="ppaction://hlinkshowjump?jump=nextslide"/>
          </p:cNvPr>
          <p:cNvSpPr/>
          <p:nvPr/>
        </p:nvSpPr>
        <p:spPr>
          <a:xfrm>
            <a:off x="7858080" y="6000840"/>
            <a:ext cx="1071720" cy="685800"/>
          </a:xfrm>
          <a:custGeom>
            <a:avLst/>
            <a:gdLst>
              <a:gd name="textAreaLeft" fmla="*/ 44280 w 1071720"/>
              <a:gd name="textAreaRight" fmla="*/ 1027440 w 1071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749" h="21600">
                <a:moveTo>
                  <a:pt x="0" y="0"/>
                </a:moveTo>
                <a:lnTo>
                  <a:pt x="33749" y="0"/>
                </a:lnTo>
                <a:lnTo>
                  <a:pt x="33749" y="21600"/>
                </a:lnTo>
                <a:lnTo>
                  <a:pt x="0" y="21600"/>
                </a:lnTo>
                <a:close/>
              </a:path>
              <a:path fill="lightenLess" w="33749" h="21600">
                <a:moveTo>
                  <a:pt x="0" y="0"/>
                </a:moveTo>
                <a:lnTo>
                  <a:pt x="33749" y="0"/>
                </a:lnTo>
                <a:lnTo>
                  <a:pt x="32349" y="1400"/>
                </a:lnTo>
                <a:lnTo>
                  <a:pt x="1400" y="1400"/>
                </a:lnTo>
                <a:close/>
              </a:path>
              <a:path fill="darken" w="33749" h="21600">
                <a:moveTo>
                  <a:pt x="33749" y="0"/>
                </a:moveTo>
                <a:lnTo>
                  <a:pt x="33749" y="21600"/>
                </a:lnTo>
                <a:lnTo>
                  <a:pt x="32349" y="20200"/>
                </a:lnTo>
                <a:lnTo>
                  <a:pt x="32349" y="1400"/>
                </a:lnTo>
                <a:close/>
              </a:path>
              <a:path fill="darkenLess" w="33749" h="21600">
                <a:moveTo>
                  <a:pt x="33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49" y="20200"/>
                </a:lnTo>
                <a:close/>
              </a:path>
              <a:path fill="lighten" w="33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749" h="21600">
                <a:moveTo>
                  <a:pt x="9868" y="3794"/>
                </a:moveTo>
                <a:lnTo>
                  <a:pt x="23881" y="10800"/>
                </a:lnTo>
                <a:lnTo>
                  <a:pt x="986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8"/>
          <p:cNvSpPr/>
          <p:nvPr/>
        </p:nvSpPr>
        <p:spPr>
          <a:xfrm>
            <a:off x="357120" y="1714680"/>
            <a:ext cx="2232000" cy="3445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Calibri"/>
              </a:rPr>
              <a:t>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Calibri"/>
              </a:rPr>
              <a:t>звёз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Calibri"/>
              </a:rPr>
              <a:t>свинь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Calibri"/>
              </a:rPr>
              <a:t>мя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Calibri"/>
              </a:rPr>
              <a:t>журав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143240" y="1785960"/>
            <a:ext cx="2373480" cy="3445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Calibri"/>
              </a:rPr>
              <a:t>земл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Calibri"/>
              </a:rPr>
              <a:t>звез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Calibri"/>
              </a:rPr>
              <a:t>свинь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Calibri"/>
              </a:rPr>
              <a:t>мя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Calibri"/>
              </a:rPr>
              <a:t>журав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кругленный прямоугольник 4"/>
          <p:cNvSpPr/>
          <p:nvPr/>
        </p:nvSpPr>
        <p:spPr>
          <a:xfrm>
            <a:off x="6786720" y="4357800"/>
            <a:ext cx="2000160" cy="1143000"/>
          </a:xfrm>
          <a:prstGeom prst="roundRect">
            <a:avLst>
              <a:gd name="adj" fmla="val 50000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Arial"/>
                <a:ea typeface="Arial"/>
              </a:rPr>
              <a:t>нет такого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 action="ppaction://hlinksldjump"/>
              </a:rPr>
              <a:t>столб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4"/>
          <p:cNvSpPr/>
          <p:nvPr/>
        </p:nvSpPr>
        <p:spPr>
          <a:xfrm>
            <a:off x="6858000" y="3143160"/>
            <a:ext cx="2000160" cy="1143000"/>
          </a:xfrm>
          <a:prstGeom prst="roundRect">
            <a:avLst>
              <a:gd name="adj" fmla="val 5000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 action="ppaction://hlinksldjump"/>
              </a:rPr>
              <a:t>2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 столб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3"/>
          <p:cNvSpPr/>
          <p:nvPr/>
        </p:nvSpPr>
        <p:spPr>
          <a:xfrm>
            <a:off x="6786720" y="1857240"/>
            <a:ext cx="2000160" cy="1143000"/>
          </a:xfrm>
          <a:prstGeom prst="roundRect">
            <a:avLst>
              <a:gd name="adj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  <a:ea typeface="Arial"/>
              </a:rPr>
              <a:t>1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 action="ppaction://hlinksldjump"/>
              </a:rPr>
              <a:t>столб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Прямоугольник 8" descr=""/>
          <p:cNvPicPr/>
          <p:nvPr/>
        </p:nvPicPr>
        <p:blipFill>
          <a:blip r:embed="rId4"/>
          <a:stretch/>
        </p:blipFill>
        <p:spPr>
          <a:xfrm>
            <a:off x="639720" y="360360"/>
            <a:ext cx="7718400" cy="119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" name="Object 2"/>
          <p:cNvGraphicFramePr/>
          <p:nvPr/>
        </p:nvGraphicFramePr>
        <p:xfrm>
          <a:off x="2143080" y="4403880"/>
          <a:ext cx="2189160" cy="24541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43080" y="4403880"/>
                    <a:ext cx="2189160" cy="24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7500960" y="6000840"/>
            <a:ext cx="1071720" cy="685800"/>
          </a:xfrm>
          <a:custGeom>
            <a:avLst/>
            <a:gdLst>
              <a:gd name="textAreaLeft" fmla="*/ 44280 w 1071720"/>
              <a:gd name="textAreaRight" fmla="*/ 1027440 w 1071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749" h="21600">
                <a:moveTo>
                  <a:pt x="0" y="0"/>
                </a:moveTo>
                <a:lnTo>
                  <a:pt x="33749" y="0"/>
                </a:lnTo>
                <a:lnTo>
                  <a:pt x="33749" y="21600"/>
                </a:lnTo>
                <a:lnTo>
                  <a:pt x="0" y="21600"/>
                </a:lnTo>
                <a:close/>
              </a:path>
              <a:path fill="lightenLess" w="33749" h="21600">
                <a:moveTo>
                  <a:pt x="0" y="0"/>
                </a:moveTo>
                <a:lnTo>
                  <a:pt x="33749" y="0"/>
                </a:lnTo>
                <a:lnTo>
                  <a:pt x="32349" y="1400"/>
                </a:lnTo>
                <a:lnTo>
                  <a:pt x="1400" y="1400"/>
                </a:lnTo>
                <a:close/>
              </a:path>
              <a:path fill="darken" w="33749" h="21600">
                <a:moveTo>
                  <a:pt x="33749" y="0"/>
                </a:moveTo>
                <a:lnTo>
                  <a:pt x="33749" y="21600"/>
                </a:lnTo>
                <a:lnTo>
                  <a:pt x="32349" y="20200"/>
                </a:lnTo>
                <a:lnTo>
                  <a:pt x="32349" y="1400"/>
                </a:lnTo>
                <a:close/>
              </a:path>
              <a:path fill="darkenLess" w="33749" h="21600">
                <a:moveTo>
                  <a:pt x="33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49" y="20200"/>
                </a:lnTo>
                <a:close/>
              </a:path>
              <a:path fill="lighten" w="33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749" h="21600">
                <a:moveTo>
                  <a:pt x="9868" y="3794"/>
                </a:moveTo>
                <a:lnTo>
                  <a:pt x="23881" y="10800"/>
                </a:lnTo>
                <a:lnTo>
                  <a:pt x="986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Скругленный прямоугольник 3">
            <a:hlinkClick r:id="rId1" action="ppaction://hlinksldjump"/>
          </p:cNvPr>
          <p:cNvSpPr/>
          <p:nvPr/>
        </p:nvSpPr>
        <p:spPr>
          <a:xfrm>
            <a:off x="3286080" y="5356080"/>
            <a:ext cx="4454640" cy="784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  <a:ea typeface="Arial"/>
              </a:rPr>
              <a:t>поставить его под уда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4">
            <a:hlinkClick r:id="rId2" action="ppaction://hlinksldjump"/>
          </p:cNvPr>
          <p:cNvSpPr/>
          <p:nvPr/>
        </p:nvSpPr>
        <p:spPr>
          <a:xfrm>
            <a:off x="3214800" y="3855960"/>
            <a:ext cx="4525920" cy="784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  <a:ea typeface="Arial"/>
              </a:rPr>
              <a:t>заменить на друг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5"/>
          <p:cNvSpPr/>
          <p:nvPr/>
        </p:nvSpPr>
        <p:spPr>
          <a:xfrm>
            <a:off x="3214800" y="2500200"/>
            <a:ext cx="4525920" cy="784440"/>
          </a:xfrm>
          <a:prstGeom prst="roundRect">
            <a:avLst>
              <a:gd name="adj" fmla="val 47778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Calibri"/>
                <a:ea typeface="Arial"/>
              </a:rPr>
              <a:t>проверить его соглас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Прямоугольник 6" descr=""/>
          <p:cNvPicPr/>
          <p:nvPr/>
        </p:nvPicPr>
        <p:blipFill>
          <a:blip r:embed="rId3"/>
          <a:stretch/>
        </p:blipFill>
        <p:spPr>
          <a:xfrm>
            <a:off x="360360" y="360360"/>
            <a:ext cx="7497720" cy="119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Object 2"/>
          <p:cNvGraphicFramePr/>
          <p:nvPr/>
        </p:nvGraphicFramePr>
        <p:xfrm>
          <a:off x="7358040" y="642960"/>
          <a:ext cx="1677960" cy="22129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58040" y="642960"/>
                    <a:ext cx="1677960" cy="22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3"/>
          <p:cNvGraphicFramePr/>
          <p:nvPr/>
        </p:nvGraphicFramePr>
        <p:xfrm>
          <a:off x="428760" y="2928960"/>
          <a:ext cx="2322360" cy="2428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75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8760" y="2928960"/>
                    <a:ext cx="232236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7858080" y="5929200"/>
            <a:ext cx="1071720" cy="685800"/>
          </a:xfrm>
          <a:custGeom>
            <a:avLst/>
            <a:gdLst>
              <a:gd name="textAreaLeft" fmla="*/ 44280 w 1071720"/>
              <a:gd name="textAreaRight" fmla="*/ 1027440 w 1071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749" h="21600">
                <a:moveTo>
                  <a:pt x="0" y="0"/>
                </a:moveTo>
                <a:lnTo>
                  <a:pt x="33749" y="0"/>
                </a:lnTo>
                <a:lnTo>
                  <a:pt x="33749" y="21600"/>
                </a:lnTo>
                <a:lnTo>
                  <a:pt x="0" y="21600"/>
                </a:lnTo>
                <a:close/>
              </a:path>
              <a:path fill="lightenLess" w="33749" h="21600">
                <a:moveTo>
                  <a:pt x="0" y="0"/>
                </a:moveTo>
                <a:lnTo>
                  <a:pt x="33749" y="0"/>
                </a:lnTo>
                <a:lnTo>
                  <a:pt x="32349" y="1400"/>
                </a:lnTo>
                <a:lnTo>
                  <a:pt x="1400" y="1400"/>
                </a:lnTo>
                <a:close/>
              </a:path>
              <a:path fill="darken" w="33749" h="21600">
                <a:moveTo>
                  <a:pt x="33749" y="0"/>
                </a:moveTo>
                <a:lnTo>
                  <a:pt x="33749" y="21600"/>
                </a:lnTo>
                <a:lnTo>
                  <a:pt x="32349" y="20200"/>
                </a:lnTo>
                <a:lnTo>
                  <a:pt x="32349" y="1400"/>
                </a:lnTo>
                <a:close/>
              </a:path>
              <a:path fill="darkenLess" w="33749" h="21600">
                <a:moveTo>
                  <a:pt x="33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49" y="20200"/>
                </a:lnTo>
                <a:close/>
              </a:path>
              <a:path fill="lighten" w="33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749" h="21600">
                <a:moveTo>
                  <a:pt x="9868" y="3794"/>
                </a:moveTo>
                <a:lnTo>
                  <a:pt x="23881" y="10800"/>
                </a:lnTo>
                <a:lnTo>
                  <a:pt x="986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3524400" y="2475000"/>
            <a:ext cx="2170080" cy="3902040"/>
          </a:xfrm>
          <a:prstGeom prst="rect">
            <a:avLst/>
          </a:prstGeom>
          <a:ln w="0">
            <a:noFill/>
          </a:ln>
        </p:spPr>
      </p:pic>
      <p:pic>
        <p:nvPicPr>
          <p:cNvPr id="78" name="Скругленный прямоугольник 4" descr=""/>
          <p:cNvPicPr/>
          <p:nvPr/>
        </p:nvPicPr>
        <p:blipFill>
          <a:blip r:embed="rId2"/>
          <a:stretch/>
        </p:blipFill>
        <p:spPr>
          <a:xfrm>
            <a:off x="6235560" y="2182680"/>
            <a:ext cx="2225880" cy="3760920"/>
          </a:xfrm>
          <a:prstGeom prst="rect">
            <a:avLst/>
          </a:prstGeom>
          <a:ln w="0">
            <a:noFill/>
          </a:ln>
        </p:spPr>
      </p:pic>
      <p:pic>
        <p:nvPicPr>
          <p:cNvPr id="79" name="Скругленный прямоугольник 5" descr=""/>
          <p:cNvPicPr/>
          <p:nvPr/>
        </p:nvPicPr>
        <p:blipFill>
          <a:blip r:embed="rId3"/>
          <a:stretch/>
        </p:blipFill>
        <p:spPr>
          <a:xfrm>
            <a:off x="665280" y="2255760"/>
            <a:ext cx="2382840" cy="376092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6" descr=""/>
          <p:cNvPicPr/>
          <p:nvPr/>
        </p:nvPicPr>
        <p:blipFill>
          <a:blip r:embed="rId4"/>
          <a:stretch/>
        </p:blipFill>
        <p:spPr>
          <a:xfrm>
            <a:off x="0" y="285840"/>
            <a:ext cx="8004240" cy="1257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" name="Object 2"/>
          <p:cNvGraphicFramePr/>
          <p:nvPr/>
        </p:nvGraphicFramePr>
        <p:xfrm>
          <a:off x="8215200" y="357120"/>
          <a:ext cx="663840" cy="14875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15200" y="357120"/>
                    <a:ext cx="66384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7858080" y="6000840"/>
            <a:ext cx="1071720" cy="685800"/>
          </a:xfrm>
          <a:custGeom>
            <a:avLst/>
            <a:gdLst>
              <a:gd name="textAreaLeft" fmla="*/ 44280 w 1071720"/>
              <a:gd name="textAreaRight" fmla="*/ 1027440 w 1071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749" h="21600">
                <a:moveTo>
                  <a:pt x="0" y="0"/>
                </a:moveTo>
                <a:lnTo>
                  <a:pt x="33749" y="0"/>
                </a:lnTo>
                <a:lnTo>
                  <a:pt x="33749" y="21600"/>
                </a:lnTo>
                <a:lnTo>
                  <a:pt x="0" y="21600"/>
                </a:lnTo>
                <a:close/>
              </a:path>
              <a:path fill="lightenLess" w="33749" h="21600">
                <a:moveTo>
                  <a:pt x="0" y="0"/>
                </a:moveTo>
                <a:lnTo>
                  <a:pt x="33749" y="0"/>
                </a:lnTo>
                <a:lnTo>
                  <a:pt x="32349" y="1400"/>
                </a:lnTo>
                <a:lnTo>
                  <a:pt x="1400" y="1400"/>
                </a:lnTo>
                <a:close/>
              </a:path>
              <a:path fill="darken" w="33749" h="21600">
                <a:moveTo>
                  <a:pt x="33749" y="0"/>
                </a:moveTo>
                <a:lnTo>
                  <a:pt x="33749" y="21600"/>
                </a:lnTo>
                <a:lnTo>
                  <a:pt x="32349" y="20200"/>
                </a:lnTo>
                <a:lnTo>
                  <a:pt x="32349" y="1400"/>
                </a:lnTo>
                <a:close/>
              </a:path>
              <a:path fill="darkenLess" w="33749" h="21600">
                <a:moveTo>
                  <a:pt x="33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349" y="20200"/>
                </a:lnTo>
                <a:close/>
              </a:path>
              <a:path fill="lighten" w="33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749" h="21600">
                <a:moveTo>
                  <a:pt x="9868" y="3794"/>
                </a:moveTo>
                <a:lnTo>
                  <a:pt x="23881" y="10800"/>
                </a:lnTo>
                <a:lnTo>
                  <a:pt x="9868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Скругленный прямоугольник 3"/>
          <p:cNvSpPr/>
          <p:nvPr/>
        </p:nvSpPr>
        <p:spPr>
          <a:xfrm>
            <a:off x="6215040" y="2357280"/>
            <a:ext cx="2376360" cy="3451320"/>
          </a:xfrm>
          <a:custGeom>
            <a:avLst/>
            <a:gdLst>
              <a:gd name="textAreaLeft" fmla="*/ 164520 w 2376360"/>
              <a:gd name="textAreaRight" fmla="*/ 2211840 w 2376360"/>
              <a:gd name="textAreaTop" fmla="*/ 164520 h 3451320"/>
              <a:gd name="textAreaBottom" fmla="*/ 3286800 h 3451320"/>
            </a:gdLst>
            <a:ahLst/>
            <a:rect l="textAreaLeft" t="textAreaTop" r="textAreaRight" b="textAreaBottom"/>
            <a:pathLst>
              <a:path w="21600" h="31369">
                <a:moveTo>
                  <a:pt x="5109" y="0"/>
                </a:moveTo>
                <a:arcTo wR="5109" hR="5109" stAng="16200000" swAng="-5400000"/>
                <a:lnTo>
                  <a:pt x="0" y="26260"/>
                </a:lnTo>
                <a:arcTo wR="5109" hR="5109" stAng="10800000" swAng="-5400000"/>
                <a:lnTo>
                  <a:pt x="16491" y="31369"/>
                </a:lnTo>
                <a:arcTo wR="5109" hR="5109" stAng="5400000" swAng="-5400000"/>
                <a:lnTo>
                  <a:pt x="21600" y="5109"/>
                </a:lnTo>
                <a:arcTo wR="5109" hR="5109" stAng="0" swAng="-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ff"/>
                </a:solidFill>
                <a:latin typeface="Calibri"/>
                <a:ea typeface="Arial"/>
              </a:rPr>
              <a:t>домаш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ff"/>
                </a:solidFill>
                <a:latin typeface="Calibri"/>
                <a:ea typeface="Arial"/>
              </a:rPr>
              <a:t>рогат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ff"/>
                </a:solidFill>
                <a:latin typeface="Calibri"/>
                <a:ea typeface="Arial"/>
              </a:rPr>
              <a:t>змеи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ff"/>
                </a:solidFill>
                <a:latin typeface="Calibri"/>
                <a:ea typeface="Arial"/>
              </a:rPr>
              <a:t>пчели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ff"/>
                </a:solidFill>
                <a:latin typeface="Calibri"/>
                <a:ea typeface="Arial"/>
              </a:rPr>
              <a:t>гроз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Скругленный прямоугольник 4"/>
          <p:cNvSpPr/>
          <p:nvPr/>
        </p:nvSpPr>
        <p:spPr>
          <a:xfrm>
            <a:off x="3429000" y="2428920"/>
            <a:ext cx="2440080" cy="3451320"/>
          </a:xfrm>
          <a:custGeom>
            <a:avLst/>
            <a:gdLst>
              <a:gd name="textAreaLeft" fmla="*/ 164160 w 2440080"/>
              <a:gd name="textAreaRight" fmla="*/ 2275920 w 2440080"/>
              <a:gd name="textAreaTop" fmla="*/ 164160 h 3451320"/>
              <a:gd name="textAreaBottom" fmla="*/ 3287160 h 3451320"/>
            </a:gdLst>
            <a:ahLst/>
            <a:rect l="textAreaLeft" t="textAreaTop" r="textAreaRight" b="textAreaBottom"/>
            <a:pathLst>
              <a:path w="21600" h="30550">
                <a:moveTo>
                  <a:pt x="4971" y="0"/>
                </a:moveTo>
                <a:arcTo wR="4971" hR="4971" stAng="16200000" swAng="-5400000"/>
                <a:lnTo>
                  <a:pt x="0" y="25579"/>
                </a:lnTo>
                <a:arcTo wR="4971" hR="4971" stAng="10800000" swAng="-5400000"/>
                <a:lnTo>
                  <a:pt x="16629" y="30550"/>
                </a:lnTo>
                <a:arcTo wR="4971" hR="4971" stAng="5400000" swAng="-5400000"/>
                <a:lnTo>
                  <a:pt x="21600" y="4971"/>
                </a:lnTo>
                <a:arcTo wR="4971" hR="4971" stAng="0" swAng="-5400000"/>
                <a:close/>
              </a:path>
            </a:pathLst>
          </a:cu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рабоч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дежу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мороз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мол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  <a:ea typeface="Arial"/>
              </a:rPr>
              <a:t>лес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Прямоугольник 6" descr=""/>
          <p:cNvPicPr/>
          <p:nvPr/>
        </p:nvPicPr>
        <p:blipFill>
          <a:blip r:embed="rId1"/>
          <a:stretch/>
        </p:blipFill>
        <p:spPr>
          <a:xfrm>
            <a:off x="878040" y="396720"/>
            <a:ext cx="7887960" cy="1303560"/>
          </a:xfrm>
          <a:prstGeom prst="rect">
            <a:avLst/>
          </a:prstGeom>
          <a:ln w="0">
            <a:noFill/>
          </a:ln>
        </p:spPr>
      </p:pic>
      <p:sp>
        <p:nvSpPr>
          <p:cNvPr id="87" name="Скругленный прямоугольник 5"/>
          <p:cNvSpPr/>
          <p:nvPr/>
        </p:nvSpPr>
        <p:spPr>
          <a:xfrm>
            <a:off x="642960" y="2357280"/>
            <a:ext cx="2305080" cy="3451320"/>
          </a:xfrm>
          <a:custGeom>
            <a:avLst/>
            <a:gdLst>
              <a:gd name="textAreaLeft" fmla="*/ 185400 w 2305080"/>
              <a:gd name="textAreaRight" fmla="*/ 2119680 w 2305080"/>
              <a:gd name="textAreaTop" fmla="*/ 185400 h 3451320"/>
              <a:gd name="textAreaBottom" fmla="*/ 3265920 h 3451320"/>
            </a:gdLst>
            <a:ahLst/>
            <a:rect l="textAreaLeft" t="textAreaTop" r="textAreaRight" b="textAreaBottom"/>
            <a:pathLst>
              <a:path w="21600" h="32339">
                <a:moveTo>
                  <a:pt x="5931" y="0"/>
                </a:moveTo>
                <a:arcTo wR="5931" hR="5931" stAng="16200000" swAng="-5400000"/>
                <a:lnTo>
                  <a:pt x="0" y="26408"/>
                </a:lnTo>
                <a:arcTo wR="5931" hR="5931" stAng="10800000" swAng="-5400000"/>
                <a:lnTo>
                  <a:pt x="15669" y="32339"/>
                </a:lnTo>
                <a:arcTo wR="5931" hR="5931" stAng="5400000" swAng="-5400000"/>
                <a:lnTo>
                  <a:pt x="21600" y="5931"/>
                </a:lnTo>
                <a:arcTo wR="5931" hR="5931" stAng="0" swAng="-5400000"/>
                <a:close/>
              </a:path>
            </a:pathLst>
          </a:cu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Calibri"/>
                <a:ea typeface="Arial"/>
              </a:rPr>
              <a:t>хорош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Calibri"/>
                <a:ea typeface="Arial"/>
              </a:rPr>
              <a:t>каранда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Calibri"/>
                <a:ea typeface="Arial"/>
              </a:rPr>
              <a:t>посу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Calibri"/>
                <a:ea typeface="Arial"/>
              </a:rPr>
              <a:t>рус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ff"/>
                </a:solidFill>
                <a:latin typeface="Calibri"/>
                <a:ea typeface="Arial"/>
              </a:rPr>
              <a:t>ягод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2"/>
          <p:cNvGraphicFramePr/>
          <p:nvPr/>
        </p:nvGraphicFramePr>
        <p:xfrm>
          <a:off x="214200" y="500040"/>
          <a:ext cx="1357560" cy="996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4200" y="500040"/>
                    <a:ext cx="1357560" cy="99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Управляющая кнопка: в конец 8">
            <a:hlinkClick r:id="" action="ppaction://hlinkshowjump?jump=lastslide"/>
          </p:cNvPr>
          <p:cNvSpPr/>
          <p:nvPr/>
        </p:nvSpPr>
        <p:spPr>
          <a:xfrm>
            <a:off x="8101080" y="5815080"/>
            <a:ext cx="1042920" cy="828720"/>
          </a:xfrm>
          <a:custGeom>
            <a:avLst/>
            <a:gdLst>
              <a:gd name="textAreaLeft" fmla="*/ 53640 w 1042920"/>
              <a:gd name="textAreaRight" fmla="*/ 989280 w 1042920"/>
              <a:gd name="textAreaTop" fmla="*/ 53640 h 828720"/>
              <a:gd name="textAreaBottom" fmla="*/ 775080 h 828720"/>
            </a:gdLst>
            <a:ahLst/>
            <a:rect l="textAreaLeft" t="textAreaTop" r="textAreaRight" b="textAreaBottom"/>
            <a:pathLst>
              <a:path w="27181" h="21600">
                <a:moveTo>
                  <a:pt x="0" y="0"/>
                </a:moveTo>
                <a:lnTo>
                  <a:pt x="27181" y="0"/>
                </a:lnTo>
                <a:lnTo>
                  <a:pt x="27181" y="21600"/>
                </a:lnTo>
                <a:lnTo>
                  <a:pt x="0" y="21600"/>
                </a:lnTo>
                <a:close/>
              </a:path>
              <a:path fill="lightenLess" w="27181" h="21600">
                <a:moveTo>
                  <a:pt x="0" y="0"/>
                </a:moveTo>
                <a:lnTo>
                  <a:pt x="27181" y="0"/>
                </a:lnTo>
                <a:lnTo>
                  <a:pt x="25781" y="1400"/>
                </a:lnTo>
                <a:lnTo>
                  <a:pt x="1400" y="1400"/>
                </a:lnTo>
                <a:close/>
              </a:path>
              <a:path fill="darken" w="27181" h="21600">
                <a:moveTo>
                  <a:pt x="27181" y="0"/>
                </a:moveTo>
                <a:lnTo>
                  <a:pt x="27181" y="21600"/>
                </a:lnTo>
                <a:lnTo>
                  <a:pt x="25781" y="20200"/>
                </a:lnTo>
                <a:lnTo>
                  <a:pt x="25781" y="1400"/>
                </a:lnTo>
                <a:close/>
              </a:path>
              <a:path fill="darkenLess" w="27181" h="21600">
                <a:moveTo>
                  <a:pt x="27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81" y="20200"/>
                </a:lnTo>
                <a:close/>
              </a:path>
              <a:path fill="lighten" w="27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181" h="21600">
                <a:moveTo>
                  <a:pt x="17089" y="10800"/>
                </a:moveTo>
                <a:lnTo>
                  <a:pt x="6584" y="17806"/>
                </a:lnTo>
                <a:lnTo>
                  <a:pt x="6584" y="3794"/>
                </a:lnTo>
                <a:close/>
              </a:path>
              <a:path fill="darken" w="27181" h="21600">
                <a:moveTo>
                  <a:pt x="18934" y="3794"/>
                </a:moveTo>
                <a:lnTo>
                  <a:pt x="18934" y="17806"/>
                </a:lnTo>
                <a:lnTo>
                  <a:pt x="20597" y="17806"/>
                </a:lnTo>
                <a:lnTo>
                  <a:pt x="20597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Прямоугольник 2" descr=""/>
          <p:cNvPicPr/>
          <p:nvPr/>
        </p:nvPicPr>
        <p:blipFill>
          <a:blip r:embed="rId1"/>
          <a:stretch/>
        </p:blipFill>
        <p:spPr>
          <a:xfrm>
            <a:off x="2425680" y="1785960"/>
            <a:ext cx="4346640" cy="976320"/>
          </a:xfrm>
          <a:prstGeom prst="rect">
            <a:avLst/>
          </a:prstGeom>
          <a:ln w="0">
            <a:noFill/>
          </a:ln>
        </p:spPr>
      </p:pic>
      <p:sp>
        <p:nvSpPr>
          <p:cNvPr id="92" name="Управляющая кнопка: возврат 4">
            <a:hlinkClick r:id="" action="ppaction://hlinkshowjump?jump=previousslide"/>
          </p:cNvPr>
          <p:cNvSpPr/>
          <p:nvPr/>
        </p:nvSpPr>
        <p:spPr>
          <a:xfrm>
            <a:off x="7929720" y="5929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7493"/>
                </a:moveTo>
                <a:lnTo>
                  <a:pt x="12922" y="7493"/>
                </a:lnTo>
                <a:lnTo>
                  <a:pt x="12922" y="12828"/>
                </a:lnTo>
                <a:cubicBezTo>
                  <a:pt x="12922" y="13751"/>
                  <a:pt x="13723" y="14482"/>
                  <a:pt x="14759" y="14482"/>
                </a:cubicBezTo>
                <a:lnTo>
                  <a:pt x="16421" y="14482"/>
                </a:lnTo>
                <a:cubicBezTo>
                  <a:pt x="17457" y="14482"/>
                  <a:pt x="18257" y="13751"/>
                  <a:pt x="18257" y="12828"/>
                </a:cubicBezTo>
                <a:lnTo>
                  <a:pt x="18257" y="7493"/>
                </a:lnTo>
                <a:lnTo>
                  <a:pt x="16421" y="7493"/>
                </a:lnTo>
                <a:lnTo>
                  <a:pt x="19929" y="3985"/>
                </a:lnTo>
                <a:lnTo>
                  <a:pt x="23602" y="7493"/>
                </a:lnTo>
                <a:lnTo>
                  <a:pt x="21765" y="7493"/>
                </a:lnTo>
                <a:lnTo>
                  <a:pt x="21765" y="12828"/>
                </a:lnTo>
                <a:cubicBezTo>
                  <a:pt x="21765" y="15596"/>
                  <a:pt x="19189" y="18155"/>
                  <a:pt x="16421" y="18155"/>
                </a:cubicBezTo>
                <a:lnTo>
                  <a:pt x="14759" y="18155"/>
                </a:lnTo>
                <a:cubicBezTo>
                  <a:pt x="11991" y="18155"/>
                  <a:pt x="9415" y="15596"/>
                  <a:pt x="9415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3132000" y="2781360"/>
            <a:ext cx="262908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Прямоугольник 1" descr=""/>
          <p:cNvPicPr/>
          <p:nvPr/>
        </p:nvPicPr>
        <p:blipFill>
          <a:blip r:embed="rId1"/>
          <a:stretch/>
        </p:blipFill>
        <p:spPr>
          <a:xfrm>
            <a:off x="1695600" y="1268280"/>
            <a:ext cx="5960880" cy="1346400"/>
          </a:xfrm>
          <a:prstGeom prst="rect">
            <a:avLst/>
          </a:prstGeom>
          <a:ln w="0">
            <a:noFill/>
          </a:ln>
        </p:spPr>
      </p:pic>
      <p:sp>
        <p:nvSpPr>
          <p:cNvPr id="95" name="Управляющая кнопка: возврат 2">
            <a:hlinkClick r:id="" action="ppaction://hlinkshowjump?jump=previousslide"/>
          </p:cNvPr>
          <p:cNvSpPr/>
          <p:nvPr/>
        </p:nvSpPr>
        <p:spPr>
          <a:xfrm>
            <a:off x="7929720" y="5929200"/>
            <a:ext cx="1042920" cy="685800"/>
          </a:xfrm>
          <a:custGeom>
            <a:avLst/>
            <a:gdLst>
              <a:gd name="textAreaLeft" fmla="*/ 44280 w 1042920"/>
              <a:gd name="textAreaRight" fmla="*/ 998640 w 10429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2842" h="21600">
                <a:moveTo>
                  <a:pt x="0" y="0"/>
                </a:moveTo>
                <a:lnTo>
                  <a:pt x="32842" y="0"/>
                </a:lnTo>
                <a:lnTo>
                  <a:pt x="32842" y="21600"/>
                </a:lnTo>
                <a:lnTo>
                  <a:pt x="0" y="21600"/>
                </a:lnTo>
                <a:close/>
              </a:path>
              <a:path fill="lightenLess" w="32842" h="21600">
                <a:moveTo>
                  <a:pt x="0" y="0"/>
                </a:moveTo>
                <a:lnTo>
                  <a:pt x="32842" y="0"/>
                </a:lnTo>
                <a:lnTo>
                  <a:pt x="31442" y="1400"/>
                </a:lnTo>
                <a:lnTo>
                  <a:pt x="1400" y="1400"/>
                </a:lnTo>
                <a:close/>
              </a:path>
              <a:path fill="darken" w="32842" h="21600">
                <a:moveTo>
                  <a:pt x="32842" y="0"/>
                </a:moveTo>
                <a:lnTo>
                  <a:pt x="32842" y="21600"/>
                </a:lnTo>
                <a:lnTo>
                  <a:pt x="31442" y="20200"/>
                </a:lnTo>
                <a:lnTo>
                  <a:pt x="31442" y="1400"/>
                </a:lnTo>
                <a:close/>
              </a:path>
              <a:path fill="darkenLess" w="32842" h="21600">
                <a:moveTo>
                  <a:pt x="328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42" y="20200"/>
                </a:lnTo>
                <a:close/>
              </a:path>
              <a:path fill="lighten" w="328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842" h="21600">
                <a:moveTo>
                  <a:pt x="9415" y="7493"/>
                </a:moveTo>
                <a:lnTo>
                  <a:pt x="12922" y="7493"/>
                </a:lnTo>
                <a:lnTo>
                  <a:pt x="12922" y="12828"/>
                </a:lnTo>
                <a:cubicBezTo>
                  <a:pt x="12922" y="13751"/>
                  <a:pt x="13723" y="14482"/>
                  <a:pt x="14759" y="14482"/>
                </a:cubicBezTo>
                <a:lnTo>
                  <a:pt x="16421" y="14482"/>
                </a:lnTo>
                <a:cubicBezTo>
                  <a:pt x="17457" y="14482"/>
                  <a:pt x="18257" y="13751"/>
                  <a:pt x="18257" y="12828"/>
                </a:cubicBezTo>
                <a:lnTo>
                  <a:pt x="18257" y="7493"/>
                </a:lnTo>
                <a:lnTo>
                  <a:pt x="16421" y="7493"/>
                </a:lnTo>
                <a:lnTo>
                  <a:pt x="19929" y="3985"/>
                </a:lnTo>
                <a:lnTo>
                  <a:pt x="23602" y="7493"/>
                </a:lnTo>
                <a:lnTo>
                  <a:pt x="21765" y="7493"/>
                </a:lnTo>
                <a:lnTo>
                  <a:pt x="21765" y="12828"/>
                </a:lnTo>
                <a:cubicBezTo>
                  <a:pt x="21765" y="15596"/>
                  <a:pt x="19189" y="18155"/>
                  <a:pt x="16421" y="18155"/>
                </a:cubicBezTo>
                <a:lnTo>
                  <a:pt x="14759" y="18155"/>
                </a:lnTo>
                <a:cubicBezTo>
                  <a:pt x="11991" y="18155"/>
                  <a:pt x="9415" y="15596"/>
                  <a:pt x="9415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"/>
          <p:cNvPicPr/>
          <p:nvPr/>
        </p:nvPicPr>
        <p:blipFill>
          <a:blip r:embed="rId2"/>
          <a:stretch/>
        </p:blipFill>
        <p:spPr>
          <a:xfrm>
            <a:off x="3105000" y="2162160"/>
            <a:ext cx="2934000" cy="31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06:22:41Z</dcterms:created>
  <dc:creator>Альбина</dc:creator>
  <dc:description/>
  <dc:language>en-US</dc:language>
  <cp:lastModifiedBy>Пользователь Windows</cp:lastModifiedBy>
  <dcterms:modified xsi:type="dcterms:W3CDTF">2022-06-19T19:12:00Z</dcterms:modified>
  <cp:revision>17</cp:revision>
  <dc:subject/>
  <dc:title>Слайд 1</dc:title>
</cp:coreProperties>
</file>